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E05B2-F7AA-4DB6-A4BF-EF7E1601E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33F5E-AA52-4A36-984B-24F41513A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1B626-7F5B-489F-859E-9A89DF13B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736A1-B02A-46CE-A72B-55E21ACCB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CD312-A691-4CB0-A353-2EED66736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4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634EA-266B-4FA4-A4C3-6933396F2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47FD1-3B69-4588-9298-0C6CCE103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0BF36-C1C2-4454-A809-2B4AB333E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891B8-A794-4A80-BEB8-D14255EFE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01F95-DE31-4B98-B209-31FDEBA4E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62F77-4731-4668-99D9-9F1E03058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A657D-BE53-496F-8AA0-0FB1A865D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5CA78-2DFF-4F85-B76F-182452FEE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6870B-6AAB-48C3-B8DC-04F76D9D1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0B055-B887-4984-B7BC-12F4078A4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AFD83-8B66-4464-8138-FBD195F38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BAB6D-3300-49CE-89FB-F175AF815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464D2D-8B69-4185-8043-54552E4A8B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3FF2B-6B79-4E45-BBB4-B85EC81335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B786F-02C2-431B-99FA-74F3443E84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6E6720-9E78-460E-B193-B374AFAA7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683E4-66A5-4B9B-AC3C-5B51971274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CC3AE-0A15-4BE7-86A7-50FB3CFBD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D6DC7-C3FC-406A-B044-23E2EAF29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65F10-BDFE-45FD-A492-BB6B9FC8C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8623A-B928-4D78-B6A6-6047D5B54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44F66-A9EB-4A07-AE9A-A94DCC20F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20692-F5FB-40C1-ACB8-A0C340F68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8784CC-B07E-48E4-AAB7-9EBEEE5BA8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2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40F311-22B0-47BC-8CC9-9E0204182E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FA3838-2C17-40D4-8C27-39B0FF2228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3"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FC83E2-7D6C-477B-ABF9-1B752746B3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5"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5F1698-83DA-4112-86C1-5CF3F324DF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66339-CA92-416D-8136-BE072DB45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7"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B5D54-88F7-4AD1-B06F-8DD7B00E0D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517BEB-802D-4AE0-85ED-2B4F316918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52082A-C21C-453A-A75B-0271AE8F23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6F0FE3-4FCD-4B59-8577-DFD627646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6"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4A6BF-106D-49CC-9B46-FAED3A23A3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7EDC1-17FB-4EFC-8B39-52CF60639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4"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D63E0-5A86-4DE0-93A5-390166936D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7"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40FCB2-3556-4CE2-8804-8A69A8C791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2"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431F1F-12D5-41CF-BEFB-CAA2897DEE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503096-AE67-4496-A0E1-2B2F2335D2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93AD1-CC20-42BA-8F96-278828D7E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5"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3570C9-5E54-40DE-AD56-EA82C915C8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7"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95C7FA-F5D4-45A1-AB75-C5A59DD0F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9"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88CC9A-4687-4571-AD8D-9B2D9F9EDA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7B62AD-389C-4094-94C4-0037F0C11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C7678-E432-44BE-9C04-AD277F78D9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695228-6CD9-4180-92E0-017BF3D4E2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8"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76708-DBE3-4A44-B762-F6C5C5A85D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9DF8A-D055-451B-ADA3-CC00AABD3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6"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7B915-4535-4EE0-B819-3E5E3DAAEA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9"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1E33C5-ED0D-4947-BFB1-AF3E3FC73B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142F9-34A2-45A7-A2FA-C83E91D37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4"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ECD8B7-47D5-4883-9081-69F93FD1C2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1FEF8B-277D-46AA-8E04-99A85E5DB4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F85D75-04B0-422E-8719-E59340720A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180C11-5A8A-4021-A3D1-E65B2CA8B4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3AC75A-CCBA-48EA-86F5-7211B204FD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AC0ED3-2561-44D0-9119-4C6288ACB3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6148FA-58DD-485F-9820-5F199BC482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2F253A-3DD1-4584-A251-AC3C2FF91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69A86C-62CE-47FD-ADA2-D364D3951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455AD1-3E92-4607-9755-08E5CDD928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B9C59-4F6E-4445-BA77-0805AC89A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DB3FDE-5C3C-45B6-9E55-06D5BBB7AE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50BE2E-C5F9-4F7E-8546-DF0A7383FE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27FDDB-EBEF-41A2-AFEA-6136962EB1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7E79BE-EA2B-46EF-8533-B14D3B728F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5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8360DA-D3CC-466B-91F7-D5BEF59CB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90777F-04D2-4426-8F98-F0409BE87C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0FA1F9-7EF0-4FC5-96B8-39F17357E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C2A67C-0202-4637-A276-BD8E69E140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FDF1CD-EC93-43A9-AA92-86DC887123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F13A16-2726-45EF-9A4B-358D8E307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08FA9-F6A6-48C5-B894-C1EAA60CB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FCCB0-F146-4594-A2C8-BFB866D862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28A474-1C68-4F20-ADED-03A59FA0C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4B0CD2-6470-4165-A510-BCDFC52E0F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E2955E-C55B-4E4B-B32E-E5EBD1C8ED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319625-EF80-4C7B-819E-9642669CEC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C79765-EFDC-4845-82C9-12D6694189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D075D6-5EE0-443C-B524-392B37570B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D5286C-6630-4222-BCFC-B3A82D24A6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737EC2-546C-4A9D-9850-7A7C16A922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A85FDB-50F5-4537-B5BA-4781A0D393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2D1B5-34ED-42CF-9C57-EEC318540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47532C-AA2E-4132-874A-93C5F16B8D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0860E-968A-4589-B8DF-39423A901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518E51-EBD7-45D7-878A-AA37BC5330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4577FA-6DD3-4CB6-94EB-56CD2D417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2B59CA-76FF-46E7-BFCA-C6ED7A0A16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E0A9B4-EE66-49FF-8711-921A222E3A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3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268BB7-9BDF-4E7E-A270-DC391E0F873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5035-2973-4F61-A6D0-17D1410739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EAA61480-2C95-4D6C-BCE8-3F40C46ACC18}"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42" name="矩形 3083"/>
          <p:cNvSpPr/>
          <p:nvPr/>
        </p:nvSpPr>
        <p:spPr>
          <a:xfrm>
            <a:off x="3238560" y="476280"/>
            <a:ext cx="43178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ffffff"/>
                </a:solidFill>
                <a:latin typeface="Arial"/>
              </a:rPr>
              <a:t>Workshop (BMW) </a:t>
            </a:r>
            <a:endParaRPr b="0" lang="en-US" sz="3400" spc="-1" strike="noStrike">
              <a:solidFill>
                <a:srgbClr val="000000"/>
              </a:solidFill>
              <a:latin typeface="Arial"/>
            </a:endParaRPr>
          </a:p>
        </p:txBody>
      </p:sp>
      <p:sp>
        <p:nvSpPr>
          <p:cNvPr id="4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4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8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4C8D250A-C8D3-4B51-974A-185635A9274E}"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8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8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73D6-60C1-415E-8FB2-80845F661E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26"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BC2EFD19-2F2C-40A1-B18F-E94FB27E943A}"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28"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205B-67F9-4430-A21C-8CBF0D33B4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68"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471531EA-FCED-4960-8137-99D330F49723}"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70"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0097-0C6A-4C83-9DA2-71FC3D1075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10"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884F6B90-6F78-47F7-8601-6EFF59758AF4}"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12"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DEF3-0D58-4B69-9A7D-30403DF098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52"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A4CFCA63-728A-468F-921A-2C770A864A8A}"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5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9FB6-AAA2-4884-B562-DB8548749F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9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BE05E018-CCEB-4D4B-B46F-A340E28B0753}"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9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608E-9184-4DE5-8EA7-53FDD36DBA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403280" y="3141720"/>
            <a:ext cx="6400800" cy="100800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采购原型系统介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59" name="矩形 35844"/>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0" name="图片 35843" descr=""/>
          <p:cNvPicPr/>
          <p:nvPr/>
        </p:nvPicPr>
        <p:blipFill>
          <a:blip r:embed="rId1"/>
          <a:stretch/>
        </p:blipFill>
        <p:spPr>
          <a:xfrm>
            <a:off x="1219320" y="1538280"/>
            <a:ext cx="6781680" cy="4724280"/>
          </a:xfrm>
          <a:prstGeom prst="rect">
            <a:avLst/>
          </a:prstGeom>
          <a:ln w="0">
            <a:noFill/>
          </a:ln>
        </p:spPr>
      </p:pic>
      <p:sp>
        <p:nvSpPr>
          <p:cNvPr id="361" name="矩形 35846"/>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64" name="矩形 50178"/>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矩形 50180"/>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图片 50181" descr=""/>
          <p:cNvPicPr/>
          <p:nvPr/>
        </p:nvPicPr>
        <p:blipFill>
          <a:blip r:embed="rId1"/>
          <a:stretch/>
        </p:blipFill>
        <p:spPr>
          <a:xfrm>
            <a:off x="1295280" y="1600200"/>
            <a:ext cx="6553440" cy="4724280"/>
          </a:xfrm>
          <a:prstGeom prst="rect">
            <a:avLst/>
          </a:prstGeom>
          <a:ln w="0">
            <a:noFill/>
          </a:ln>
        </p:spPr>
      </p:pic>
      <p:sp>
        <p:nvSpPr>
          <p:cNvPr id="367"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69"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订单制单以后即生效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rPr>
              <a:t>制单和下达</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见</a:t>
            </a:r>
            <a:r>
              <a:rPr b="1" lang="zh-CN" sz="2800" spc="-1" strike="noStrike">
                <a:solidFill>
                  <a:srgbClr val="ffffff"/>
                </a:solidFill>
                <a:latin typeface="宋体"/>
                <a:ea typeface="宋体"/>
              </a:rPr>
              <a:t>采购申请单描述</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修改、查看、删除、审核</a:t>
            </a:r>
            <a:r>
              <a:rPr b="1" lang="en-US" sz="2800" spc="-1" strike="noStrike">
                <a:solidFill>
                  <a:srgbClr val="ffffff"/>
                </a:solidFill>
                <a:latin typeface="宋体"/>
              </a:rPr>
              <a:t>/</a:t>
            </a:r>
            <a:r>
              <a:rPr b="1" lang="zh-CN" sz="2800" spc="-1" strike="noStrike">
                <a:solidFill>
                  <a:srgbClr val="ffffff"/>
                </a:solidFill>
                <a:latin typeface="宋体"/>
              </a:rPr>
              <a:t>反审核、查询关联单据（查询关联的采购申请单）</a:t>
            </a:r>
            <a:r>
              <a:rPr b="1" lang="zh-CN" sz="2800" spc="-1" strike="noStrike">
                <a:solidFill>
                  <a:srgbClr val="000000"/>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BOTP</a:t>
            </a:r>
            <a:endParaRPr b="1" lang="en-US" sz="4200" spc="-1" strike="noStrike">
              <a:solidFill>
                <a:srgbClr val="ffcc00"/>
              </a:solidFill>
              <a:latin typeface="Arial"/>
            </a:endParaRPr>
          </a:p>
        </p:txBody>
      </p:sp>
      <p:sp>
        <p:nvSpPr>
          <p:cNvPr id="37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订单不能手工录入，必须由采购申请单关联下推生成。下推生成的采购订单允许用户手工修改。</a:t>
            </a:r>
            <a:endParaRPr b="0" lang="en-US" sz="2800" spc="-1" strike="noStrike">
              <a:solidFill>
                <a:srgbClr val="ffffff"/>
              </a:solidFill>
              <a:latin typeface="Arial"/>
            </a:endParaRPr>
          </a:p>
          <a:p>
            <a:pPr marL="343080" indent="-3430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申请单审核以后就可以关联下推生成采购订单了，关联生成采购订单的时候，必须把相应的单据信息带过去，减少用户的录入工作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zh-CN" sz="4200" spc="-1" strike="noStrike">
                <a:solidFill>
                  <a:srgbClr val="ffcc00"/>
                </a:solidFill>
                <a:latin typeface="Arial"/>
              </a:rPr>
              <a:t> </a:t>
            </a:r>
            <a:endParaRPr b="1" lang="en-US" sz="4200" spc="-1" strike="noStrike">
              <a:solidFill>
                <a:srgbClr val="ffcc00"/>
              </a:solidFill>
              <a:latin typeface="Arial"/>
            </a:endParaRPr>
          </a:p>
        </p:txBody>
      </p:sp>
      <p:sp>
        <p:nvSpPr>
          <p:cNvPr id="373"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订货汇总表</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根据采购申请单和采购订单统计物料的申请数量、已订货数量、未订货数量，便于用户掌握订货情况，进行后续的采购订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统计报表</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7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汇总：根据指定的汇总条件汇总所有已经下达的采购申请单，缺省按照物料编码和需求日期汇总单据状态</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条件：用户可以指定汇总从某年某月某日到某年某月某日的采购申请单</a:t>
            </a:r>
            <a:r>
              <a:rPr b="1" lang="zh-CN" sz="3200" spc="-1" strike="noStrike">
                <a:solidFill>
                  <a:srgbClr val="ffffff"/>
                </a:solidFill>
                <a:latin typeface="宋体"/>
                <a:ea typeface="宋体"/>
              </a:rPr>
              <a:t> </a:t>
            </a: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排序：采购订货汇总表按照物料编码排序＋需求日期排序</a:t>
            </a:r>
            <a:r>
              <a:rPr b="1" lang="zh-CN" sz="3200" spc="-1" strike="noStrike">
                <a:solidFill>
                  <a:srgbClr val="000000"/>
                </a:solidFill>
                <a:latin typeface="宋体"/>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7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查询条件</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78" name="矩形 44036"/>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图片 44035" descr=""/>
          <p:cNvPicPr/>
          <p:nvPr/>
        </p:nvPicPr>
        <p:blipFill>
          <a:blip r:embed="rId2"/>
          <a:stretch/>
        </p:blipFill>
        <p:spPr>
          <a:xfrm>
            <a:off x="1600200" y="1905120"/>
            <a:ext cx="62485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8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报表界面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82" name="矩形 46083"/>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矩形 46086"/>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图片 46085" descr=""/>
          <p:cNvPicPr/>
          <p:nvPr/>
        </p:nvPicPr>
        <p:blipFill>
          <a:blip r:embed="rId2"/>
          <a:stretch/>
        </p:blipFill>
        <p:spPr>
          <a:xfrm>
            <a:off x="1143000" y="1828800"/>
            <a:ext cx="6934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337" name=""/>
          <p:cNvSpPr txBox="1"/>
          <p:nvPr/>
        </p:nvSpPr>
        <p:spPr>
          <a:xfrm>
            <a:off x="394920" y="1351080"/>
            <a:ext cx="8497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原型概述</a:t>
            </a:r>
            <a:endParaRPr b="0" lang="en-US" sz="3400" spc="-1" strike="noStrike">
              <a:solidFill>
                <a:srgbClr val="ffffff"/>
              </a:solidFill>
              <a:latin typeface="Arial"/>
            </a:endParaRPr>
          </a:p>
          <a:p>
            <a:pPr marL="343080" indent="-3430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业务流程</a:t>
            </a:r>
            <a:endParaRPr b="0" lang="en-US" sz="3400" spc="-1" strike="noStrike">
              <a:solidFill>
                <a:srgbClr val="ffffff"/>
              </a:solidFill>
              <a:latin typeface="Arial"/>
            </a:endParaRPr>
          </a:p>
          <a:p>
            <a:pPr marL="343080" indent="-343080">
              <a:spcBef>
                <a:spcPts val="8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申请</a:t>
            </a:r>
            <a:endParaRPr b="0" lang="en-US" sz="3400" spc="-1" strike="noStrike">
              <a:solidFill>
                <a:srgbClr val="ffffff"/>
              </a:solidFill>
              <a:latin typeface="Arial"/>
            </a:endParaRPr>
          </a:p>
          <a:p>
            <a:pPr marL="343080" indent="-343080">
              <a:spcBef>
                <a:spcPts val="8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订单</a:t>
            </a:r>
            <a:endParaRPr b="0" lang="en-US" sz="3400" spc="-1" strike="noStrike">
              <a:solidFill>
                <a:srgbClr val="ffffff"/>
              </a:solidFill>
              <a:latin typeface="Arial"/>
            </a:endParaRPr>
          </a:p>
          <a:p>
            <a:pPr marL="343080" indent="-343080">
              <a:spcBef>
                <a:spcPts val="8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统计报表</a:t>
            </a:r>
            <a:endParaRPr b="0" lang="en-US" sz="3400" spc="-1" strike="noStrike">
              <a:solidFill>
                <a:srgbClr val="ffffff"/>
              </a:solidFill>
              <a:latin typeface="Arial"/>
            </a:endParaRPr>
          </a:p>
        </p:txBody>
      </p:sp>
      <p:sp>
        <p:nvSpPr>
          <p:cNvPr id="338" name="文本框 14338"/>
          <p:cNvSpPr/>
          <p:nvPr/>
        </p:nvSpPr>
        <p:spPr>
          <a:xfrm>
            <a:off x="0" y="0"/>
            <a:ext cx="1800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219"/>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采购订货原型系统是从采购系统中抽取出来的一个功能子集，在三个方面做了简化：</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业务流程的简化：本案例只包括采购申请、采购订单两个个主要业务用例；而且这两个个业务用例也对其中包含的业务逻辑进行了极大的简化；只描述最基本的业务逻辑</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协同应用的简化：本案例除了基础系统以外，不考虑跟其他业务系统的接口，例如不考虑跟预算系统、资金系统、总账系统、应收应付系统、生产管理系统的相关协同和接口，只是一个封闭的、单纯的业务系统原型</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统计查询的简化：采购报表也做了极大简化，只有一个采购订货汇总表</a:t>
            </a:r>
            <a:r>
              <a:rPr b="1" lang="zh-CN" sz="2400" spc="-1" strike="noStrike">
                <a:solidFill>
                  <a:srgbClr val="ffffff"/>
                </a:solidFill>
                <a:latin typeface="Arial"/>
              </a:rPr>
              <a:t> </a:t>
            </a:r>
            <a:endParaRPr b="0" lang="en-US" sz="2400" spc="-1" strike="noStrike">
              <a:solidFill>
                <a:srgbClr val="000000"/>
              </a:solidFill>
              <a:latin typeface="Arial"/>
            </a:endParaRPr>
          </a:p>
        </p:txBody>
      </p:sp>
      <p:sp>
        <p:nvSpPr>
          <p:cNvPr id="34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33793"/>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采购订货原型系统的主要目标</a:t>
            </a:r>
            <a:r>
              <a:rPr b="1" lang="zh-CN" sz="3200" spc="-1" strike="noStrike">
                <a:solidFill>
                  <a:srgbClr val="ffffff"/>
                </a:solidFill>
                <a:latin typeface="Arial"/>
                <a:ea typeface="宋体"/>
              </a:rPr>
              <a:t> ：</a:t>
            </a:r>
            <a:r>
              <a:rPr b="1" lang="zh-CN"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根据各个部门、各个组织单元提出的采购申请制定采购订单进行订货（为了简化培训案例，这里省去了对供应商选择、比价、询价、还盘、</a:t>
            </a:r>
            <a:r>
              <a:rPr b="1" lang="zh-CN" sz="3200" spc="-1" strike="noStrike">
                <a:solidFill>
                  <a:srgbClr val="ffffff"/>
                </a:solidFill>
                <a:latin typeface="宋体"/>
                <a:ea typeface="宋体"/>
              </a:rPr>
              <a:t>采购提前期</a:t>
            </a:r>
            <a:r>
              <a:rPr b="1" lang="zh-CN" sz="3200" spc="-1" strike="noStrike">
                <a:solidFill>
                  <a:srgbClr val="ffffff"/>
                </a:solidFill>
                <a:latin typeface="宋体"/>
              </a:rPr>
              <a:t>等业务要素的考虑）</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然后根据采购订单的下达情况统计采购申请的已订货数量和未订货数量，出统计报表。</a:t>
            </a:r>
            <a:endParaRPr b="0" lang="en-US" sz="3200" spc="-1" strike="noStrike">
              <a:solidFill>
                <a:srgbClr val="000000"/>
              </a:solidFill>
              <a:latin typeface="Arial"/>
            </a:endParaRPr>
          </a:p>
        </p:txBody>
      </p:sp>
      <p:sp>
        <p:nvSpPr>
          <p:cNvPr id="34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r>
              <a:rPr b="0" lang="en-US" sz="4500" spc="-1" strike="noStrike">
                <a:solidFill>
                  <a:srgbClr val="ffcc00"/>
                </a:solidFill>
                <a:latin typeface="Arial"/>
              </a:rPr>
              <a:t>(</a:t>
            </a:r>
            <a:r>
              <a:rPr b="0" lang="zh-CN" sz="4500" spc="-1" strike="noStrike">
                <a:solidFill>
                  <a:srgbClr val="ffcc00"/>
                </a:solidFill>
                <a:latin typeface="Arial"/>
              </a:rPr>
              <a:t>续</a:t>
            </a:r>
            <a:r>
              <a:rPr b="0" lang="en-US" sz="4500" spc="-1" strike="noStrike">
                <a:solidFill>
                  <a:srgbClr val="ffcc00"/>
                </a:solidFill>
                <a:latin typeface="Arial"/>
              </a:rPr>
              <a:t>)</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41985"/>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采购订货原型系统的业务流程主要包括：提出采购申请</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下达采购订单</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采购订货统计，具体见下图：</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34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业务流程</a:t>
            </a:r>
            <a:endParaRPr b="1" lang="en-US" sz="4200" spc="-1" strike="noStrike">
              <a:solidFill>
                <a:srgbClr val="ffcc00"/>
              </a:solidFill>
              <a:latin typeface="Arial"/>
            </a:endParaRPr>
          </a:p>
        </p:txBody>
      </p:sp>
      <p:pic>
        <p:nvPicPr>
          <p:cNvPr id="345" name="图片 41987" descr=""/>
          <p:cNvPicPr/>
          <p:nvPr/>
        </p:nvPicPr>
        <p:blipFill>
          <a:blip r:embed="rId1"/>
          <a:stretch/>
        </p:blipFill>
        <p:spPr>
          <a:xfrm>
            <a:off x="1447920" y="228600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pic>
        <p:nvPicPr>
          <p:cNvPr id="347" name="图片 29699" descr=""/>
          <p:cNvPicPr/>
          <p:nvPr/>
        </p:nvPicPr>
        <p:blipFill>
          <a:blip r:embed="rId1"/>
          <a:stretch/>
        </p:blipFill>
        <p:spPr>
          <a:xfrm>
            <a:off x="1219320" y="1676520"/>
            <a:ext cx="6781680" cy="4514760"/>
          </a:xfrm>
          <a:prstGeom prst="rect">
            <a:avLst/>
          </a:prstGeom>
          <a:ln w="0">
            <a:noFill/>
          </a:ln>
        </p:spPr>
      </p:pic>
      <p:sp>
        <p:nvSpPr>
          <p:cNvPr id="348" name="矩形 29702"/>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
          <p:cNvSpPr txBox="1"/>
          <p:nvPr/>
        </p:nvSpPr>
        <p:spPr>
          <a:xfrm>
            <a:off x="380880" y="10666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sp>
        <p:nvSpPr>
          <p:cNvPr id="351" name="矩形 48131"/>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2" name="图片 48132" descr=""/>
          <p:cNvPicPr/>
          <p:nvPr/>
        </p:nvPicPr>
        <p:blipFill>
          <a:blip r:embed="rId1"/>
          <a:stretch/>
        </p:blipFill>
        <p:spPr>
          <a:xfrm>
            <a:off x="1295280" y="1538280"/>
            <a:ext cx="6629400" cy="4724280"/>
          </a:xfrm>
          <a:prstGeom prst="rect">
            <a:avLst/>
          </a:prstGeom>
          <a:ln w="0">
            <a:noFill/>
          </a:ln>
        </p:spPr>
      </p:pic>
      <p:sp>
        <p:nvSpPr>
          <p:cNvPr id="353"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5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采购申请单必须审核后才能正式生效</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制单、下达、关闭</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采购申请单关联下推生成采购订单</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新增（包括录入和保存）、修改、查看、删除、审核</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反审核、关联、查询关联单据（查询关联的采购订单）</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其它</a:t>
            </a:r>
            <a:endParaRPr b="1" lang="en-US" sz="4200" spc="-1" strike="noStrike">
              <a:solidFill>
                <a:srgbClr val="ffcc00"/>
              </a:solidFill>
              <a:latin typeface="Arial"/>
            </a:endParaRPr>
          </a:p>
        </p:txBody>
      </p:sp>
      <p:sp>
        <p:nvSpPr>
          <p:cNvPr id="35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工作流审批</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审核条件（例如金额大于</a:t>
            </a:r>
            <a:r>
              <a:rPr b="1" lang="en-US" sz="2800" spc="-1" strike="noStrike">
                <a:solidFill>
                  <a:srgbClr val="ffffff"/>
                </a:solidFill>
                <a:latin typeface="Arial"/>
              </a:rPr>
              <a:t>1000</a:t>
            </a:r>
            <a:r>
              <a:rPr b="1" lang="zh-CN" sz="2800" spc="-1" strike="noStrike">
                <a:solidFill>
                  <a:srgbClr val="ffffff"/>
                </a:solidFill>
                <a:latin typeface="Arial"/>
              </a:rPr>
              <a:t>元必须由高级主管审核）、审核人选、需要几级审核等等由用户在工作流系统中自行配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编码规则</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预警平台</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流程预警</a:t>
            </a:r>
            <a:r>
              <a:rPr b="1" lang="en-US" sz="2800" spc="-1" strike="noStrike">
                <a:solidFill>
                  <a:srgbClr val="ffffff"/>
                </a:solidFill>
                <a:latin typeface="宋体"/>
              </a:rPr>
              <a:t>:</a:t>
            </a:r>
            <a:r>
              <a:rPr b="1" lang="zh-CN" sz="2800" spc="-1" strike="noStrike">
                <a:solidFill>
                  <a:srgbClr val="ffffff"/>
                </a:solidFill>
                <a:latin typeface="宋体"/>
              </a:rPr>
              <a:t>对所有处于制单状态的申请单超过一定期限后进行预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07:21:51Z</dcterms:created>
  <dc:creator>ivory</dc:creator>
  <dc:description/>
  <dc:language>en-US</dc:language>
  <cp:lastModifiedBy>张娟</cp:lastModifiedBy>
  <dcterms:modified xsi:type="dcterms:W3CDTF">2020-05-25T03:31:19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662</vt:lpwstr>
  </property>
</Properties>
</file>